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63520"/>
            <a:ext cx="780444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28600">
              <a:spcBef>
                <a:spcPts val="700"/>
              </a:spcBef>
              <a:buClr>
                <a:srgbClr val="063de8"/>
              </a:buClr>
              <a:buSzPct val="65000"/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8520"/>
            <a:ext cx="51818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                                                                                  Slide </a:t>
            </a:r>
            <a:fld id="{98969853-0ECB-42C9-823F-C2CB52A2F936}" type="slidenum"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TOOLS OF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058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chosen to facilitate research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esearchers need special tools indigenous to particular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re concern with general tools of research regardless of discipline and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careful not to equate tools of research with the act of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rary research”, statistical research” suggest basic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UPM Online Databas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04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CM Digital Libr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04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2. The Computer and its Software – Tool of Research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lphaL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ing advantage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Wide Web (WWW) is the world of 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: Netscape, I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: journals, publishers, organisations, individua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ngine: google, yahoo, Alta Vista, et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2. The Computer and its Software – Tool of Research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Times"/>
              <a:buAutoNum type="alphaLcPeriod" startAt="2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and to individual or a group of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ing questions to authors, exper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collaboration among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d file (report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e-mail platforms: yahoo, hotmai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2. The Computer and its Software – Tool of Research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lphaLcPeriod" startAt="3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servers: E-discussion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groups with particular inte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3. Measurement – Tool of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   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ers strive for objectivity: not influenced by own perceptions, impressions, and bi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must identify systematic way of measuring a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dage – if it exists, then it can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researchable, then data must be 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ways we can measur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just way usually think abo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data has nothing to do with physical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Quantify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i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a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y phenomeno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substa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involve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data being measured to a pre-established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ying mean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what deg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you think of the world and its manifestations through the data observed in terms of magnitude and signific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Quantify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tely must result in a mathematic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istinguish between mathematical and num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al means “science” or “knowle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ematical value = ability of scale to measure the data so that we have more knowledge or understanding of the significanc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al = number,  express data in a degree or numerical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ubstantial or Insubstanti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, objects are substantial – Engineer measures the span of a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bstantial – exists as concepts, ideas: opinion on national issues, status of Malaysian business, evaluation of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by opinion survey, KLSE index, IQ tests, questionnaires, o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apture in substantial but truly exist as bridge 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cale of Measuremen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46, Stevens suggested a hierarchy of levels of measurement, widely adopted by statisticians and researchers as means of classify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types of measuremen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minal, ordinal, inter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means “name” – can measure data by assigning name t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measure a group of children by dividing into two groups – girls and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TOOLS OF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earch t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pecific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</a:rPr>
              <a:t>mechanism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earcher uses to 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imes New Roman"/>
              </a:rPr>
              <a:t>collect, manipulate, or 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earch 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eneral 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earcher takes in </a:t>
            </a:r>
            <a:r>
              <a:rPr b="0" lang="en-US" sz="2800" spc="-1" strike="noStrike" u="sng">
                <a:solidFill>
                  <a:srgbClr val="063de8"/>
                </a:solidFill>
                <a:uFillTx/>
                <a:latin typeface="Times New Roman"/>
              </a:rPr>
              <a:t>carrying out the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ject, to a certain extent approach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Times New Roman"/>
              </a:rPr>
              <a:t>dic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articular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Times New Roman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esearcher sel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Nomin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ay boys group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 gi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divide the children according to their home address, Bangi or Serd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lemental and unrefined, but it divides the data into discrete categories that can then be compared with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Nomin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90720" y="1676520"/>
          <a:ext cx="382572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382572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68720" y="1676520"/>
            <a:ext cx="3826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represented by graphic and statistic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 graph – for comparative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ocate mode, finding percentage of relationship one subgroup to another, chi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rdin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e quantity being measured in terms of the symbol &lt; and &gt;, higher or lower, greater or lesser,  younger or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an asymmetrical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of education grossly on ordinal, unschooled, primary, secondary, college, grad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force, unskilled, semi-skilled, 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rdin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676520"/>
          <a:ext cx="382572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382572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68720" y="1676520"/>
            <a:ext cx="3826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range of statistic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, median, percentile rank, test by chi square, indicate relationship, rank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va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features :   1) equal units of measurement                               2) zero point established arbitr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amiliar of interval scale is the therm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freezing point and the boiling point for Celsius and Fahrenheit?? 0 (100) and 32 (2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use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ing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- 5 point measurement of academic teaching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termine mode, mean, std deviation, t-test, F-test, product moment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atio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ale that measures in terms of equal intervals and absolute zero point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interval and ratio: thermometer, we cannot say 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is twice as warm as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, because it does not originate from point of absolute zero. If it is, then we cannot measure temperature below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atio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ero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“the total absence of the quantity being measured”, cannot measure minus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determining the geometric mean, the harmonic mean, the percent variation and all other inferential statist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Measurement Summ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an say tha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bject is different from another, you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bject is bigger or better or more of anything than another, you hav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bject is so many units (degrees, km, kilos) more than another, you hav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bject is so many times as big or bright or tall or heavy as another, you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Validity and Reliabil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very important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ity is concerned with the soundness, the effectiveness of the measuremen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, a standardize test, what does the test measure? Does it, in fact, measure what it is supposed to measure? How well, how comprehensively, how accurately does it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that measure professor’s availability, “always available” – what does “always”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ypes of Valid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Face validity – relies on subjective judgement – must answer two questions. i) Is the instrument measuring what it is supposed to measure? ii) Is the sample being measured adequ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Criterion validity – employs two measures; the second as criterion (reliable and valid), check against the accuracy of the first mea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Content validity – equate to face validity – accuracy with which an instrument measures the factors or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TOOLS OF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– a place for discovering certain data to be analyzed and interpr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– a way of representing data numerically and then attempting to analyze and interpret thos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is always ancillary to basic re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 to insist the use of statistics will deny valid research in non-quantitative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ype of Valid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Construct validity – concept that can be directly observed or isolated, the measuring instrument must be able to discriminate, or differentiate the con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) Internal validity – the freedom from bias in forming conclusion in view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) External validity – can the conclusion drawn from a sample be generalized to other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Validity and Reliabil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ity looks to the end results – are we really measuring what we think we are measu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 – what accuracy does the measure (test, instrument, inventory, questionnaire) what it is intended to meas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263160"/>
            <a:ext cx="7191360" cy="738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4. Statistics as a Tool of Research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ools are MORE suitable for some purposes than for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: screw driver was designed to INSERT and remove screws – BUT people often used it for punching holes, scratch away paints, etc…..misus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oo,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 can be a powerful tool when used correctly (for specific kind of data &amp; research ques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be misleading when applied in other con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4. Statistics as a Tool of Research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useful in some academic disciplines than in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e statistical values obtained are never the end of research nor the final answer to resear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l question is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do the data indi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not what is their numerical configu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give information about the data BUT a conscientious researcher is not satisfied until the MEANING of this information is revea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63160"/>
            <a:ext cx="5584680" cy="793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</a:rPr>
              <a:t>The Lure of Statistic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can be like the voice of a bevy of sirens to the novice resear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ing data to statistical routines may hire novice researchers into thinking they had made substantial discovery – only calculated numbers that help in interpretation – CANNOT capture the nuances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</a:rPr>
              <a:t>The Lure of Statistic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 must discover the meaning of the data and its relevance to the research problem – Any statistical process is merely ancillary to the central qu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e most sophisticated statistical procedures can never make amends for poorly conceived research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467840" cy="608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</a:rPr>
              <a:t>Primary Function of Statistic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609480" indent="-609480"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81d58"/>
              </a:buClr>
              <a:buSzPct val="50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inference from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ve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mmarize the general nature of the data, average, variability, closeness of two or more characteristic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</a:rPr>
              <a:t>Primary Functions of Statistic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tial 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p in making decision about the data: decide whether the differences observed between two groups in an experiment are large enough to be attributed to the experimental intervention rather than to a once-in-a-blue-moon flu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volve summarizing data in some ways and create entities that have no counterpart in re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: students work 24, 22, 12, and 16 hours per week. The average is 18.5 but NO student work exactly 18.5 hours/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imary Functions of Statistic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being has limited capacity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help condense overwhelming body of data into information that mind can compreh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researchers “see” patterns and relationships that might otherwise go unnoti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 human mind comprehe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arate data as an organized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5. The Human Mind – Tool of Research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533520" indent="-533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can tell us the centre, the spread, relationship of data BUT cannot interpret and arrive at a logical conclusion or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ind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d is the most important t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equals its powers of comprehension, integrative reasoning and ins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TOOLS OF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x general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Library and it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 computer and it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echniques of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he human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e Human Min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es to make use of the human mind to better understand inclu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uctive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How is Knowledge Discovered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begin with an understanding of the manner in which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knowledge is dis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sole aim of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kind have devised only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ys to seek th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edu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du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cient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Deductive Logic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th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naiss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ost problem solving using deductive logic,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fied by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d upo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logical reaso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egan with a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majo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ise is a statement similar to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Axi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eemed to b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lf-evi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universally accepted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uth 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n is mortal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19191"/>
                </a:solidFill>
                <a:latin typeface="Times New Roman"/>
              </a:rPr>
              <a:t>superman and ultraman are not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arth is 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Deductive Logic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ror that gripped Columbus’s sailors was a fear supported by deductive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Prem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arth was flat,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aso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lat surface would have boundaries (the edges), the ship would come to the edge and would fall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 was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easoning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accu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clusion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e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t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major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em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easoning began with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reconceived i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eeme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Inductive Reason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an interest i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hum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ew approach to unsolve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the world and its pheno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way of thinking known as inductive reasoning,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begin with an ob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preconceived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truth by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loo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world around them,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sk ques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nature responded in the form of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observable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Inductive Reason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ue researc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s at th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facts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and as a result of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observing them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raws conclusions as to what they apparently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b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exactly 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at the fact do in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inductive thin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– group of neurologists, A,B,C, and others sought the answer, How long can a person have a “flat EEG” and still reco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Inductive Reason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bserved actual 3000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noted that in all cases where the flat EEG persisted for 24 hours or more,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not a single recovery occur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facts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ointed to the same conclu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t is tragically unlikely  that a recovery might take place with those exhibit flat EEG tracing of 24 hours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urse,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annot rule out the unexplored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Origin of Scientific Metho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fact is fact, those who seek knowledge must translate it into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acts ar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ssembled and stud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assionately, they frequently suggest hitherto (until this time) th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undiscovered tru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e scientific method – “the method that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searches after knowl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ed real impetus during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y such as Paracelsus, Leonardo, Copernicus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th is sough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Ide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lem that defines th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ne’s 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os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ypothesis that, if confirmed, resolves th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Gath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relevant to the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pr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ee whether they support the hypothesis and resolve the question that initiated the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of the scientific method often involves both deductive and inductive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ers may develop a hypothesis either from a theory (deductive logic) or from observations of specific events (inductive reason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using deductive logic, they make predictions about the patterns they are likely to see in the da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hypothesis i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ften, using inductive reasoning, they generalize from data taken from a sample to describe the characteristics of a larger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1. The Library &amp; Its Resourc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 should know its principal resources and understand its classification system, and find the shortest route to the information it cont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learn the library by using th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ies have man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ere the various holdings are 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 is the heart of the library – books , films, filmstrip, tapes, phonograph records, microfilm, maps, pictures, slides, CDs,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ritical Think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ring LR don’t just accept research findings and theories at face val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rutinize for faulty assumptions, questionable logic, weaknesses in methodology, inappropriate statistical analyses, and unwarranted conclus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ood researchers engage in critical think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volves evaluating information or arguments in terms of their accuracy and w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ritical Think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variety of forms, depending on th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bal reaso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Understanding and evaluating the persuasive techniques found in oral and writte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gument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iminating between reasons that do and do not support a particular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ision 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Identifying and judging several alternatives and selecting the best altern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itical analysis of prior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ritical Analysis Of Prior Research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value of data and research results in terms of the methods used to obtain them and their potential relevance to particular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s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an appropriate method used to measure a particular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data and results derived from a relatively large number of people, objects, or ev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ther possible explanations or conclusions been elimina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results obtained in one situation be reasonably generalized to other situ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ritical Think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in Computer Scienc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llaboration with Oth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heads are better than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searcher has certain perspectives, assumptions, and theoretical biases – not to mention holes in knowledge about subject matter – that limit research approaches of a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bring colleagues who have perspectives, backgrounds, and areas of expertise somewhat different – more cognitive resources to tackle research problem and how to find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llaboration with Oth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qual partners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y offer suggestions an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students themselves are the key p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they are assigned an advisor or advisory committ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dent (careful) student selects committee that will make genuine con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6. Language as a Tool of Research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kind’s greatest achievements – facilitate communication and think eff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ink more clearly and efficiently when can represent thoughts with specific WORDS and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, even a simple one,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world’s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generalization and inference drawing in new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bstraction of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the power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he Value of Knowing Two or More Languages</a:t>
            </a:r>
            <a:endParaRPr b="0" lang="en-US" sz="2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significant research is reported in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known researchers and theorists, Jean Piaget and Lev Vygotsky wrote in French and Russian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new discoveries are reported in the native language of the resear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e Importance of Writ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searchers must be able to use language with a degree of skill and accuracy to produce Research Report – clear and co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thinking precedes clear writing – writing can be a productive form of thinking itself – when writing ideas down on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dentify the specific ideas you do and do not know about your top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larify and organize thoughts sufficiently to communicate them to your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detect gaps and logical flaws in your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e Importance of Writ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about a topic actually enhances the writers understanding of that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ait until all thoughts are clear before start writing, you may NEVER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ith a TITLE and PURPOS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title to paper, keep it in plain sight as you focus your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can provide focus and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and concise statement, “The purpose of this study is….”  you are on your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Gateway to UPM Libr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04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Writing to Communicat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 what you mean to s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ecision utmost importance – choose words and phrases carefully so that you communica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, not vague approximation – clear, concise, effective sentences and combine these sentences into unified and coherent para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ep your primary objective in writing your paper in mind at all times, and focus discussion according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vice researchers try to include everything they have learned – everything you say MUST relate directly or indirectly to your research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Writing to Communicat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de an overview of what you will be talking ab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ad effectively when they know what to expect – overview and order, topics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ganize your ideas into general and more specific categ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Use headings and subheadings a simple way to make scheme crystal cl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de transitional phrases, sentences, or paragraphs that help your readers follow train of thou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ive signal when change course of discu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 concrete examples to make abstract ideas more understan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Writing to Communicat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 appropriate punct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help communicate mea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 figures and tables when such mechanisms can more effectively present or organize your ideas and fin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the conclusion of a chapter or major section, summarize what have been sa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ings that are the most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ticipate that you will almost certainly have to write multiple draf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vise several times – novice or exp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UPM Library Catalogu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04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he Treasury of Knowledg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udent researchers died a pauper but lived in a house in which a treasure was h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 approach is to overwhelm with multitude of titles hoping students will diligently seek out, but usually does not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need to know where the master keys that will unlock the total resources – locate the relevant in the shortes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he Treasury of Knowledg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lecting research problem, the library is the FIRST place to clarify the dimension of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what others have done in the area or in corollary investi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eive ideas that help to sharpen the focus of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08:57:14Z</dcterms:created>
  <dc:creator/>
  <dc:description/>
  <cp:keywords/>
  <dc:language>en-US</dc:language>
  <cp:lastModifiedBy>admin</cp:lastModifiedBy>
  <cp:lastPrinted>2001-11-21T08:58:38Z</cp:lastPrinted>
  <dcterms:modified xsi:type="dcterms:W3CDTF">2007-08-13T19:15:15Z</dcterms:modified>
  <cp:revision>103</cp:revision>
  <dc:subject/>
  <dc:title>Managing people</dc:title>
</cp:coreProperties>
</file>