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63520"/>
            <a:ext cx="780444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8276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28600">
              <a:spcBef>
                <a:spcPts val="700"/>
              </a:spcBef>
              <a:buClr>
                <a:srgbClr val="063de8"/>
              </a:buClr>
              <a:buSzPct val="65000"/>
              <a:buFont typeface="Times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18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18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18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9120" y="6523200"/>
            <a:ext cx="575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chapter 4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Slide </a:t>
            </a:r>
            <a:fld id="{26B930FB-92EF-435B-A642-4FB26C42CB41}" type="slidenum"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Literature Review (LR)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058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general, students don’t understand the purpose of investigating the 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function – the more one knows the more knowledgeably one can approach th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400" spc="-1" strike="noStrike">
                <a:solidFill>
                  <a:srgbClr val="063de8"/>
                </a:solidFill>
                <a:latin typeface="Times New Roman"/>
              </a:rPr>
              <a:t>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vie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look aga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t what others have done in areas that are similar, though not necessarily identical to, one’s own area of inves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earcher, you should know the literature about your topic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ery, very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y benefits from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Evaluating, Organising, and Synthesizing the Literatur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ver take other people’s conclusions at face value; determine for yourself whether their conclusions are justified based on the data 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to evaluating what you read, you must al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gan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ideas you encounter during your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bproblems within your main problem should, in many cases, provide a general organisational scheme you ca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at how other authors have organised literature reviews related to your topic may be helpful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Evaluating, Organising, and Synthesizing the Literatur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533520" indent="-53352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, and perhaps most importantly, you m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the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at you have learned from your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you must pull together the diverse perspectives and research results you have read into a cohesive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are some examples of what you might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81d58"/>
              </a:buClr>
              <a:buSzPct val="50000"/>
              <a:buFont typeface="Times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and contrast varying theoretical perspectives on the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81d58"/>
              </a:buClr>
              <a:buSzPct val="50000"/>
              <a:buFont typeface="Times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how approaches to the topic have changed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Evaluating, Organising, and Synthesizing the Literatur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general trends in research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81d58"/>
              </a:buClr>
              <a:buSzPct val="50000"/>
              <a:buFont typeface="Times"/>
              <a:buAutoNum type="arabicPeriod" startAt="4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discrepant or contradictory findings, and suggest possible explanations for such discrepa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81d58"/>
              </a:buClr>
              <a:buSzPct val="50000"/>
              <a:buFont typeface="Times"/>
              <a:buAutoNum type="arabicPeriod" startAt="4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general themes that run throughout the 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 write a literature review that does such things, you have contributed something new to the knowledge in the field e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 have conducted your ow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act, a literature review that makes such a contribution is often publishable in its own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riting LR - Guideline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Times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the proper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psychological ori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Times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Times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Emphasise relat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Times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Give credi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credit is d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Times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he literature.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Don’t reproduce 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Times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Summari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you have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Times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hat your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 first draf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almost certainly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 NOT be your last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Times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others for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 advi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Psychological Orientatio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the proper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psychological ori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lear in your thinking – know precisely what you are attempting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 is a discussion of the studies, research reports, scholarly or broad spectrum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discussion with a peer about what others have written in relation to what you plan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0">
              <a:spcBef>
                <a:spcPts val="700"/>
              </a:spcBef>
              <a:buNone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Psychological Orientation  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99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view will help develop proper psychological perspective and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see effort in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other researc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consider LR as an unnecessary appendage (something added to or joined to something larger),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eager to get 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contrary, a conscientious and thorough review of the literature related to your problem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can open up new possibil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new ways of looking at the problem that might have been totally overlooked other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Have a Pla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pl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Writing a review of the related literature takes planning and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ffort requires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thou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ruc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coher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nected logically; clear and easy to underst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outline what you plan to say before beginning writing the literature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 itself  should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suggest relevant are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ussion and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indicate th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Have a Pla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classic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historic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iented studies are the discrete areas within which your problem 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the laser was built from exploring relativistic quantum mechanics and the nature of matter and light in electromagne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discussion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from a comprehens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spective, like an inverted pyramid – broad end first, then deal with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more specific ideas and stud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focus in more and more on your own particular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Emphasise Relatednes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55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200" spc="-1" strike="noStrike">
                <a:solidFill>
                  <a:srgbClr val="063de8"/>
                </a:solidFill>
                <a:latin typeface="Times New Roman"/>
              </a:rPr>
              <a:t>Emphasize relatedn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keep your reader constantly aware of how the literature you are discussing is related to your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55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 out </a:t>
            </a:r>
            <a:r>
              <a:rPr b="0" lang="en-US" sz="2200" spc="-1" strike="noStrike">
                <a:solidFill>
                  <a:srgbClr val="fc0128"/>
                </a:solidFill>
                <a:latin typeface="Times New Roman"/>
              </a:rPr>
              <a:t>precisel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the relationship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55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terature reviews should never be a chain of isolated </a:t>
            </a:r>
            <a:r>
              <a:rPr b="0" lang="en-US" sz="2200" spc="-1" strike="noStrike">
                <a:solidFill>
                  <a:srgbClr val="063de8"/>
                </a:solidFill>
                <a:latin typeface="Times New Roman"/>
              </a:rPr>
              <a:t>summaries of the writing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55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200" spc="-1" strike="noStrike">
                <a:solidFill>
                  <a:srgbClr val="fc0128"/>
                </a:solidFill>
                <a:latin typeface="Times New Roman"/>
              </a:rPr>
              <a:t>Wor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m of discussion, Jones says …; Black says ...; Brown says ...; Smith says …  - Such is </a:t>
            </a:r>
            <a:r>
              <a:rPr b="0" lang="en-US" sz="2200" spc="-1" strike="noStrike">
                <a:solidFill>
                  <a:srgbClr val="063de8"/>
                </a:solidFill>
                <a:latin typeface="Times New Roman"/>
              </a:rPr>
              <a:t>not a discussion of related literature; no attemp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made to demonstrate the relatedness of the literature to the problem being researc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55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ever you cite a study, explain clearly how it relates to your own research problem. Make yourself </a:t>
            </a:r>
            <a:r>
              <a:rPr b="0" lang="en-US" sz="2200" spc="-1" strike="noStrike">
                <a:solidFill>
                  <a:srgbClr val="fc0128"/>
                </a:solidFill>
                <a:latin typeface="Times New Roman"/>
              </a:rPr>
              <a:t>accounta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what you s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Emphasise Relatednes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499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es recommended for avoiding the misunderstanding of the purpose of L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your research problem prominently at the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top of  page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is location, it will be a constant reminder of the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central ax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ound which everything else revo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 the problem by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numbe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s various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sub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 the remainder of the page into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two 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her together all the citations that refer to a particular aspect of the problem so that you have as many groups as you have subdivisions of your mai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left-hand column, list each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 stu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your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Benefits of Literature Review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offer </a:t>
            </a: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new ideas, perspectives, and approach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at may not have occurred to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inform you about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other researche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ho conduct work in this area – individuals whom you may wish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to contact for advice or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show you how others have </a:t>
            </a: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handled methodological and design issu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tudies similar to you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</a:t>
            </a:r>
            <a:r>
              <a:rPr b="0" lang="en-GB" sz="2400" spc="-1" strike="noStrike">
                <a:solidFill>
                  <a:srgbClr val="663300"/>
                </a:solidFill>
                <a:latin typeface="Times New Roman"/>
              </a:rPr>
              <a:t>reveal sources of dat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at you may not have known exi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introduce you to </a:t>
            </a: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measurement too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at other researchers have developed and used effec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Emphasise Relatednes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lvl="1" marL="1039680" indent="0">
              <a:spcBef>
                <a:spcPts val="60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right-hand column,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opposite each stu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te the particular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subdi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problem to which the study relates and note the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ration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includ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7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dditional pages or table rows as you need them until you have listed every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7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he review.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Head each 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ording containing the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dentical 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und in the statement of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Give Credit where Credit is Du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riting the literature review, alway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dit those authors whose ideas you are using or whose research results you are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ecific way in which you do this, e.g. with footnotes or with citations in parentheses in the text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even want to present other authors’ actual words, either within quotation marks (for a  phrase or sentence) or in an indented pa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Don’t Reproduce the Literature!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he literature.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Don’t reproduce 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writing LR is one of the most challenging works– requires that you keep a clear foc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ply quoting long passages or cite at length the words or ideas of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consider LR as merely a conventional filler – something that everyone d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Don’t Reproduce the Literature!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important as what others say about their research, and perhaps even more important, is </a:t>
            </a: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what you sa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ut their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emphasis should always be on how a particular idea or research finding relates to your own problem – something that only you can disc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499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ice –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040" indent="-43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 your own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040" indent="-43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phrase (precis (short statement of the main points of a speech or piece of writing), resume (summary), give a synopsis, an epitome (person or thing that is the perfect example of a quality or typ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040" indent="-43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hort, direct quotations if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040" indent="-43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quotations are a last resort. Use them only for a very good reason – for instance, when the specific words that an author uses are as important as the ideas that the author pres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Summarise What You Have Said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discussion of related literature should end with a brief summary section and sets forth its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signific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erms of the research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important question to ask and continually is 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“What does it all mean?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tudies end in a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fuzz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clusion without coming to any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focal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ading “Summary” should condense your review into a synopsis of how the existing literature on your topic contributes to an understanding of the specific problem you are trying to 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First Draft is Not Last Draft 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should expect to write multiple drafts of your literature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act, writing the first draft will help you identify parts of the literature that are still unclear to you and places where you may need additional information or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when you have obtained all the information you need for a complete review, you will typically not be able to express your thoughts with complete clarity the first time 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Ask Others for Advice and Feedback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55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 others to read your rough draft of the LR, talk with others about what you have found, and get ideas about additional avenues you may need to expl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55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-mail to contact people who have an interest in this area of study (e.g., contact the authors of studies that have influenced your own wor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55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ain where you are working, send them a copy of what you have written, and ask for their feedback and sugges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55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 will be amazed at how helpful and supportive people can be when you tell them that you have read their work and would appreciate their opi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Benefits of Literature Review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an reveal </a:t>
            </a: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methods of dealing with problematic situation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at may be similar to difficulties you are f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an help you </a:t>
            </a: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interpret and make sense of your finding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, ultimately, help you tie your results to the work of those who have precede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bolster your confide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at your topic is one worth studying, because you will find that others have invested considerable time, effort, and resources in study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Benefits of Literature Review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PhD, the second last benefit is of particular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s are presumed to be original investigations into unexplored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didates thinking a particular problem to be unoccupied territory has been so well tilled by others – practically farm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 should know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where others have be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what activ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y have been enga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How to Begi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ibrary catalo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Locate books relevant to your research topic – may be general textbooks in your discipline or collections of articles written by a variety of experts in the fiel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Indexes and Abstra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egin with periodical in your academic area –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Online data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Access to the literature which contain enormous collections of citations or abstracts related to various subjects and discip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How to Begi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7000"/>
          </a:bodyPr>
          <a:p>
            <a:pPr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ddition to using the library catalog, indexes and abstracts, and  online databases, the following strategies are sugges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55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Looking at government pub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55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Surfing the World Wide We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55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Using the citations and reference lists of those who have gone before yo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track dow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ny references that you see cited by three or more other research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cause such references are clearly influencing current work in your field and should not be overlooked. Whenever possible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o to the original source and read it yoursel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ince most authors misrepresent the work of a particular researcher in the same, particular way; apparently, they are reading one another’s descriptions of that researcher’s work rather than reading the researcher’s own word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How to Begi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Make as many cop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bibliographic items as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ystematic and thoroug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elate bibliography to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Conducting a Literature Search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Times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he problem in its entirety at the top of the page or computer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Times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down each subproblem in its entirety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Times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the important words and phrases in each sub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Times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 these words and phrases into specific topics that you must learn more about. These topics become your “agenda” as you read the 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Times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library to seek out resources related to your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Times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Evaluating, Organising, and Synthesizing the Literatur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any literature reviews do nothing more than report what other people have done and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earn nothing new from such a review; we’d better off reading the original articles for our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good literature review, the researcher doesn’t merely report the related 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or she also 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</a:rPr>
              <a:t>evalu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63de8"/>
                </a:solidFill>
                <a:latin typeface="Times New Roman"/>
              </a:rPr>
              <a:t>organis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synthesiz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others hav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only read other people’s work but you must also critically evaluate their methods and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4T08:57:14Z</dcterms:created>
  <dc:creator/>
  <dc:description/>
  <cp:keywords/>
  <dc:language>en-US</dc:language>
  <cp:lastModifiedBy>admin</cp:lastModifiedBy>
  <cp:lastPrinted>2001-11-21T08:58:38Z</cp:lastPrinted>
  <dcterms:modified xsi:type="dcterms:W3CDTF">2007-08-13T19:16:51Z</dcterms:modified>
  <cp:revision>80</cp:revision>
  <dc:subject/>
  <dc:title>Managing people</dc:title>
</cp:coreProperties>
</file>